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52B5-A940-428E-A272-4DA8FF3B4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B197-EA08-4F11-ACA1-EE91FD62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61F1-C8B3-498F-B27A-C247DB558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E32D-2581-416D-9E01-F41303FAB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0717-CB33-4DA6-8019-68BD37C6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5AF5-70E6-463A-8145-2518982B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43B3-EE7B-4FC4-BC21-5CDBC592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5039-B9BD-4FA7-9842-4D2E59F8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3211-ACC4-4F52-A08B-EADBE97A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4E0E-06A2-4F46-85CF-20706405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D1C8-9C20-4092-AA9B-BF5FDE73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CB45-8C84-4C8A-B631-01091A4E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1D19-8E9C-4E10-B9C7-8825D2D1EFAE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1CC6-D553-464B-9999-2BF2BBE1B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aiCreate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A746-3E64-4899-ABF8-F23687A5AF6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C417E6-69D0-4B39-85CA-C97818076E9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TC</cp:lastModifiedBy>
  <dcterms:modified xsi:type="dcterms:W3CDTF">2008-10-18T06:58:44Z</dcterms:modified>
  <cp:revision>6</cp:revision>
  <dc:subject/>
  <dc:title>Slide 1</dc:title>
</cp:coreProperties>
</file>