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90CCF-6702-494E-9AEE-6D4635B716A1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2923E-4963-4108-9637-B140B0694C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F3F84-D9CB-415C-A84F-0D3F389ADA43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07357-D0EA-4014-A663-CCF4198B9C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A095-5A82-484F-ADD1-BE6357293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2DC3-8C41-482E-BC7E-53E4FE7AF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AAE5-3AB5-4694-8CC4-C9334D691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EDC3-F7A4-4DBA-99DD-FD6FBBFC5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22D7-5BB4-4BFE-955E-7BBC69497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992A-52AF-4651-9007-89E7C2A8A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17C6-97E0-48CB-A5E5-FD1D24C46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85B1-F9A5-46C3-826F-ABDC7A12C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CE14-3CF6-48A9-AFA8-C1BACAD09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4149-50C8-43CC-84ED-9C12F38FD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68D0-1F1F-4E66-9F35-76DF03C8E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AFCE-192A-4CAE-AF3F-861A6FF9A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4D5AF-00DC-4EB0-9B32-8188794C77FD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ThaiCreat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6D234-FFE3-49C9-808B-055A6F23EA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DF38C-24F7-486E-AEDA-54CEB6AFF03A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627DE-9981-4D8E-BF09-95404BB64B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635040" y="1270080"/>
            <a:ext cx="888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cc"/>
                </a:solidFill>
                <a:latin typeface="Arial"/>
              </a:rPr>
              <a:t>I Love ShotDev.Com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35040" y="1905120"/>
            <a:ext cx="888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Love ShotDev.Com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635040" y="2540160"/>
            <a:ext cx="888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Lo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tDev.Com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635040" y="3174840"/>
            <a:ext cx="888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Love ShotDev.Com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635040" y="3809880"/>
            <a:ext cx="8889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ffcc"/>
                </a:solidFill>
                <a:latin typeface="Arial"/>
              </a:rPr>
              <a:t>I Love ShotDev.Com 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C:\Users\WEERACHAI\Desktop\ppt\logo.gif"/>
          <p:cNvPicPr/>
          <p:nvPr/>
        </p:nvPicPr>
        <p:blipFill>
          <a:blip r:embed="rId1"/>
          <a:stretch/>
        </p:blipFill>
        <p:spPr>
          <a:xfrm>
            <a:off x="3505320" y="5181480"/>
            <a:ext cx="213336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BE5FC-3BB0-4BA0-AFD2-B993C88FF758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FC21C-358A-4A7E-9C8D-77A025BFC9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ww.ShotDev.Com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D8211-2CD6-40B2-BDB5-B64B177E8348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DFE77-DD5D-4C3D-8282-99446AEBB1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/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E1364-3717-4593-B7F6-FE65FEAF9562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415E9-0966-4E2D-A453-4E2BA18C6B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4:57:32Z</dcterms:created>
  <dc:creator>TC</dc:creator>
  <dc:description/>
  <dc:language>en-US</dc:language>
  <cp:lastModifiedBy>WEERACHAI</cp:lastModifiedBy>
  <dcterms:modified xsi:type="dcterms:W3CDTF">2010-04-03T15:49:18Z</dcterms:modified>
  <cp:revision>16</cp:revision>
  <dc:subject/>
  <dc:title>Slide 1</dc:title>
</cp:coreProperties>
</file>