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F88C-EAA2-4E26-A95F-C49FE709FAFD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69C2-2694-4B33-99A2-2316E425B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F94C-FD6E-4F2B-AC1D-FAEFCD90D1BE}" type="datetime3">
              <a:rPr b="0" lang="en-US" sz="12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F8D9-8FDC-450E-9D38-A10EB9956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18CE-0CAD-4FB3-9C56-C7E7B03CB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0812-1458-4EB2-A4DE-8AA5D5E9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7AA7-207C-41DA-9C23-BD45109A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8BB9-DEA1-424B-BBEC-552B87031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87F-844C-4283-AB32-DD7FCF29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1C17-3C6C-4EF5-8E83-85A605EF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C5F1-295B-4847-8AD9-49FE911A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263-615F-4CFB-A7CB-8C931AF5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CF5-E26F-4908-BCBE-001497F44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FE20-8907-44A1-968E-55E24165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AFFE-3794-48C2-A5C5-BA1120FD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493F-8158-450E-89C4-791040557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7F11-D67B-441B-AE61-D52CD591B718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ThaiCreat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2BE88-604B-4508-86C4-ACA1D3FD73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BBF2-D6DC-439D-86C5-DBC5238E44D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F715-495D-4CE4-B460-CADBBAA03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35040" y="1270080"/>
            <a:ext cx="888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ffcc"/>
                </a:solidFill>
                <a:latin typeface="Arial"/>
              </a:rPr>
              <a:t>I Love ShotDev.Com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35040" y="1905120"/>
            <a:ext cx="88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Love ShotDev.Co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635040" y="2540160"/>
            <a:ext cx="888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Lo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tDev.Co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635040" y="3174840"/>
            <a:ext cx="888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ShotDev.Com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35040" y="3809880"/>
            <a:ext cx="88898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ccffcc"/>
                </a:solidFill>
                <a:latin typeface="Arial"/>
              </a:rPr>
              <a:t>I Love ShotDev.Com 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Users\WEERACHAI\Desktop\ppt\logo.gif"/>
          <p:cNvPicPr/>
          <p:nvPr/>
        </p:nvPicPr>
        <p:blipFill>
          <a:blip r:embed="rId1"/>
          <a:stretch/>
        </p:blipFill>
        <p:spPr>
          <a:xfrm>
            <a:off x="3505320" y="5181480"/>
            <a:ext cx="213336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6213-E1EB-488A-A170-96A8AF02584E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3C82-6F36-4086-955C-70E5CFDF1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ww.ShotDev.Com 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 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D5A1-D081-4EF9-8F0C-DB48DA3B64A5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50A6-D4F8-41E4-B660-F16024F957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B26A-83E3-4FA3-9E29-F40E0362F10A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ooter Placeholder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hotDev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02B2-478B-45A8-8489-A7C85C3904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Arial"/>
              </a:rPr>
              <a:t>We Love ShotDev.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WEERACHAI</cp:lastModifiedBy>
  <dcterms:modified xsi:type="dcterms:W3CDTF">2010-04-03T15:49:18Z</dcterms:modified>
  <cp:revision>16</cp:revision>
  <dc:subject/>
  <dc:title>Slide 1</dc:title>
</cp:coreProperties>
</file>