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E083D-A7A0-4682-B86B-DCACB155E893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30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0661F-A367-48C3-9AEE-68970F053E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B6E64-6AF9-4B66-97AA-A2C048BD95ED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30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96712-AC86-42E8-A2AA-980F471E6A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38BC9-D22D-4B4E-A4EE-96A098DE8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8C3A2-7FD6-411B-B13E-DAE48FA68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3D0FE-4E6E-400E-B3FF-5A2DC94A5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4F7E4-F5E0-41D0-80BA-23655563A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3073D-A462-4B26-A2B3-41E7BFE60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F7358-ED53-4CA4-9A71-0ED7028E3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2C89F-D5AE-45A3-B346-9FA54FB49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186EB-D02C-46C6-B931-204F7D29C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5CF36-1869-401A-A730-4AAC9F009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5E42A-F879-4D4E-A397-5F7D9187C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4F7DC-E6AA-4E7B-973C-19F82EC88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3C1DD-41A0-442A-8593-C34A4378A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ABE2D-FDE3-4D6F-952C-5263A064A167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30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ThaiCreat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09260-3512-486F-A5A2-9A2733E9D2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C5A5A-A5F2-45DB-8A96-FF622EF751DD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30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hotDev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06A74-AC36-41DF-9CA2-E346817464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635040" y="1270080"/>
            <a:ext cx="8889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ffcc"/>
                </a:solidFill>
                <a:latin typeface="Arial"/>
              </a:rPr>
              <a:t>I Love ShotDev.Com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635040" y="1905120"/>
            <a:ext cx="888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Love ShotDev.Com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635040" y="2540160"/>
            <a:ext cx="888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 Lo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tDev.Com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635040" y="3174840"/>
            <a:ext cx="888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 Love ShotDev.Com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8"/>
          <p:cNvSpPr/>
          <p:nvPr/>
        </p:nvSpPr>
        <p:spPr>
          <a:xfrm>
            <a:off x="635040" y="3809880"/>
            <a:ext cx="88898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ccffcc"/>
                </a:solidFill>
                <a:latin typeface="Arial"/>
              </a:rPr>
              <a:t>I Love ShotDev.Com 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0" descr="C:\Users\WEERACHAI\Desktop\ppt\logo.gif"/>
          <p:cNvPicPr/>
          <p:nvPr/>
        </p:nvPicPr>
        <p:blipFill>
          <a:blip r:embed="rId1"/>
          <a:stretch/>
        </p:blipFill>
        <p:spPr>
          <a:xfrm>
            <a:off x="3505320" y="5181480"/>
            <a:ext cx="2133360" cy="6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F7E4B-63C6-4DFC-BD57-1645E844118D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30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Foot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hotDev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8550D-4CB5-407E-AB59-C859253AAF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cc"/>
                </a:solidFill>
                <a:latin typeface="Arial"/>
              </a:rPr>
              <a:t>www.ShotDev.Com Ver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7EEB8-99E1-48AF-A0BC-C99D38B62D03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30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hotDev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95AE3-36FB-40BE-B045-91168415C9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cc"/>
                </a:solidFill>
                <a:latin typeface="Arial"/>
              </a:rPr>
              <a:t>We Love ShotDev.C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/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A4D7E-8435-470F-8F2A-622EAE49F045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30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Foot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hotDev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CA22D-E159-4761-9A0C-9F73FF5660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cc"/>
                </a:solidFill>
                <a:latin typeface="Arial"/>
              </a:rPr>
              <a:t>We Love ShotDev.C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8T04:57:32Z</dcterms:created>
  <dc:creator>TC</dc:creator>
  <dc:description/>
  <dc:language>en-US</dc:language>
  <cp:lastModifiedBy>WEERACHAI</cp:lastModifiedBy>
  <dcterms:modified xsi:type="dcterms:W3CDTF">2010-04-03T15:49:18Z</dcterms:modified>
  <cp:revision>16</cp:revision>
  <dc:subject/>
  <dc:title>Slide 1</dc:title>
</cp:coreProperties>
</file>