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5E4D6-5777-4852-9FA3-89826D1B7B92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6299B-69DD-42F4-95EE-FAC3D4599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F1B9F-BF86-449B-8DE0-6139BAC4A263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AF3CF-6F0D-462E-82F2-77EE6D13D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0968-386F-427D-8C9F-5A7CB6DC0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0659-180D-4818-8F0C-55C1FC3ED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827A-0DB5-401C-AAF7-95028987B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AB32-3C6F-40C7-A119-9D93423AA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6D70-B3ED-4F78-9C46-AC37F973B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8560-2A8B-49AF-ABE0-079BCD4EA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2231-4ACB-4692-93AD-E025B7B32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6FD5-D275-4E36-BC82-2BCD12D89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439E-5494-4DDE-8592-089EBA162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7C01-2D36-4C8F-8CCA-CE108E5A7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1FFD-5338-433D-A215-86370AF92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FBBC-EEDF-4C28-8BE3-F83761FE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40BAB-1554-48AC-8701-FEC75C1C7B28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ThaiCreat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27081-F250-4553-BD6A-65DD033E0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6496B-43B0-4AB7-A229-E72B5A58C758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68227-D5D9-4474-824E-7A1FD1A1C8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35040" y="1270080"/>
            <a:ext cx="888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cc"/>
                </a:solidFill>
                <a:latin typeface="Arial"/>
              </a:rPr>
              <a:t>I Love ShotDev.Com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35040" y="1905120"/>
            <a:ext cx="88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Love ShotDev.Com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35040" y="2540160"/>
            <a:ext cx="88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Lo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tDev.Co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35040" y="3174840"/>
            <a:ext cx="888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Love ShotDev.Com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35040" y="3809880"/>
            <a:ext cx="8889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cc"/>
                </a:solidFill>
                <a:latin typeface="Arial"/>
              </a:rPr>
              <a:t>I Love ShotDev.Com 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C:\Users\WEERACHAI\Desktop\ppt\logo.gif"/>
          <p:cNvPicPr/>
          <p:nvPr/>
        </p:nvPicPr>
        <p:blipFill>
          <a:blip r:embed="rId1"/>
          <a:stretch/>
        </p:blipFill>
        <p:spPr>
          <a:xfrm>
            <a:off x="3505320" y="5181480"/>
            <a:ext cx="213336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789BC-EA4E-4D22-B62F-2CA423AA0E31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9B39F-DE55-4FA5-A730-19549AA0AD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ww.ShotDev.Com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880EA-1B78-4873-81A2-616E89689297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E1242-C6EC-4CB6-A53D-7E352ACEAE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C647F-C07C-4580-A12D-BC05D406CF35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B361F-FF4D-4632-A6E4-E83D64D684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WEERACHAI</cp:lastModifiedBy>
  <dcterms:modified xsi:type="dcterms:W3CDTF">2010-04-03T15:49:18Z</dcterms:modified>
  <cp:revision>16</cp:revision>
  <dc:subject/>
  <dc:title>Slide 1</dc:title>
</cp:coreProperties>
</file>