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055080-3C28-41C7-B321-987EFF1854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EB764-15F2-402D-88FB-5265C8D15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3AFA-5DCF-428B-BB46-B709D91D6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1A667-5105-40EC-AC9A-6FFAB47C04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9CDE3-F7B9-4062-84F7-CED409AFCC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7FDCB-4576-4532-A52D-D7F3CA392C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4125E-F3B7-4752-9EAB-1460C74C7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7AAC8-CCAD-48C8-9FEC-4FA2F1A06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2FC60-C91E-4581-B751-95C0F51F97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1A420-7824-4FFF-9E5D-347D54498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AAA39-0C55-413F-BC64-08A79AB8EE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2ED8-8C99-4A39-923F-61C52DBBD9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56662-CED7-484F-B203-E0439690DC0F}" type="datetime3">
              <a:rPr b="0" lang="en-US" sz="1400" spc="-1" strike="noStrike">
                <a:solidFill>
                  <a:srgbClr val="000000"/>
                </a:solidFill>
                <a:latin typeface="Arial"/>
              </a:rPr>
              <a:t>July 28, 20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2726F-64BF-49C8-AB52-F6F0C05A37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www.ThaiCreate.Com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AD2A2-8BC3-4C0F-9594-9C37B41A6473}" type="slidenum">
              <a:t>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28036-5F3F-40A1-AEC9-25A60BDC6D89}" type="datetime3">
              <a:rPr lang="en-US"/>
              <a:t>July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18T04:57:32Z</dcterms:created>
  <dc:creator>TC</dc:creator>
  <dc:description/>
  <dc:language>en-US</dc:language>
  <cp:lastModifiedBy>TC</cp:lastModifiedBy>
  <dcterms:modified xsi:type="dcterms:W3CDTF">2008-10-18T06:58:44Z</dcterms:modified>
  <cp:revision>6</cp:revision>
  <dc:subject/>
  <dc:title>Slide 1</dc:title>
</cp:coreProperties>
</file>