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2AE10-C802-49E5-9F7A-962460A4FE57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5B34E-8C5F-468E-9613-841D60A802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18D23-AA66-48E1-9548-D240D20A731A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463AB-C7AF-4BE5-A60B-EDCE65EEAB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C580-6A2A-47D5-BDBF-96F9C3181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1E60-AED6-47E8-913B-21A1E7873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AC8D-646B-4F08-B635-A88F755B0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3FA4-89E4-410A-918C-F295E2C85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37EA-BDD2-42AD-83EE-AF31258E1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106C-9234-4C8C-9088-7CA7F2C64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C44F-A368-4617-B91D-548033B4A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858F-46AE-4C9A-A384-7A4CC69AD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5563-A758-4DCE-B05F-A6BADB4A9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BA6F-422D-4C26-A259-317A5264B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8233-9E10-4344-835F-DD17AEF83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6015-7A29-488C-811E-4B03A35B8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73B37-187D-4F5B-9A91-FC1BF7D6A72A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ThaiCreat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3CAB1-6763-4F62-9E08-45D9E6DFFC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A7CF0-1D16-4776-8622-CC6B874BE83A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47409-9C4E-4560-933C-4193CCD1DA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635040" y="1270080"/>
            <a:ext cx="888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cc"/>
                </a:solidFill>
                <a:latin typeface="Arial"/>
              </a:rPr>
              <a:t>I Love ShotDev.Com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635040" y="1905120"/>
            <a:ext cx="888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Love ShotDev.Com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635040" y="2540160"/>
            <a:ext cx="888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 Lo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tDev.Com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635040" y="3174840"/>
            <a:ext cx="888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 Love ShotDev.Com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635040" y="3809880"/>
            <a:ext cx="8889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ccffcc"/>
                </a:solidFill>
                <a:latin typeface="Arial"/>
              </a:rPr>
              <a:t>I Love ShotDev.Com 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0" descr="C:\Users\WEERACHAI\Desktop\ppt\logo.gif"/>
          <p:cNvPicPr/>
          <p:nvPr/>
        </p:nvPicPr>
        <p:blipFill>
          <a:blip r:embed="rId1"/>
          <a:stretch/>
        </p:blipFill>
        <p:spPr>
          <a:xfrm>
            <a:off x="3505320" y="5181480"/>
            <a:ext cx="2133360" cy="6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35543-C6EB-4662-B0E7-13269A38A121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03D42-E8F1-42F8-9437-1E69D5DECA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ww.ShotDev.Com 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7CDCE-60CC-4202-92A9-057279773076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8F5E2-EC31-4579-A420-F260218B75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e Love ShotDev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/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7E2BC-A0B2-413C-8FFB-09F2105D1551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1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61939-1747-478C-817A-ADDA937533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e Love ShotDev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8T04:57:32Z</dcterms:created>
  <dc:creator>TC</dc:creator>
  <dc:description/>
  <dc:language>en-US</dc:language>
  <cp:lastModifiedBy>WEERACHAI</cp:lastModifiedBy>
  <dcterms:modified xsi:type="dcterms:W3CDTF">2010-04-03T15:49:18Z</dcterms:modified>
  <cp:revision>16</cp:revision>
  <dc:subject/>
  <dc:title>Slide 1</dc:title>
</cp:coreProperties>
</file>